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applause.wav" ContentType="audio/x-wav"/>
  <Override PartName="/ppt/media/image1.jpeg" ContentType="image/jpeg"/>
  <Override PartName="/ppt/media/chimes.wav" ContentType="audio/x-wav"/>
  <Override PartName="/ppt/media/image2.jpeg" ContentType="image/jpeg"/>
  <Override PartName="/ppt/media/click.wav" ContentType="audio/x-wav"/>
  <Override PartName="/ppt/media/image3.jpeg" ContentType="image/jpeg"/>
  <Override PartName="/ppt/media/explode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48A-0D20-4901-9AEC-ED5D805D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699-EA30-4819-B22A-7BC89E9B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1FC-54DF-4C0B-BE64-72250F2B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F5D-7E8E-4881-8735-0CB5F475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846E-DC35-44D4-9A4C-C0CFF48B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40C0-0BB7-4A3A-AA51-017C8C31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AEC7-02FA-46F4-9BB4-284B3F36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9966-0F58-4758-BE44-E19D34E7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5354-2B8F-4746-ADA3-6D630386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5938-DC12-4542-9620-9C04DEFF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4E25-D279-46F2-A3F3-256E5ADF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D6A-9292-4B58-AD05-05B10724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D274-EF5D-4978-A487-150057DE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B446-E4BB-4C9C-AB48-4A9410C5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D420-3083-4916-B22C-AE00DE0A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8D6E-B916-44A9-A5AB-28C1BBBE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8488-E419-4B5F-97D6-FE41679E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693B-07EB-4B82-A021-A9B6FC02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1F0F-500A-4BDF-9274-6DB476A6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B9CC-B387-4B6B-889F-C447E325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E4C-792A-477C-BF2D-0A67441D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7869-5C40-418E-AC93-4A96B781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A3CB-E2C8-4E0F-8801-7DCA6B7A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683-F0C5-457C-B339-E66861C0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1E3F-9B0D-4CBE-89D5-3638481AFEE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57AE-E3C2-424C-BA3F-E75D3D74C11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-252360" y="4410000"/>
            <a:ext cx="9396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GUY FAWKE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p:transition>
    <p:newsflash/>
    <p:sndAc>
      <p:stSnd>
        <p:snd r:embed="rId1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9900cc"/>
                </a:solidFill>
                <a:latin typeface="Arial Black"/>
              </a:rPr>
              <a:t>STUFF ABOUT GUY FAWK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Guy Fawkes was born on the 13</a:t>
            </a:r>
            <a:r>
              <a:rPr b="0" lang="en-NZ" sz="2400" spc="-1" strike="noStrike" baseline="30000">
                <a:solidFill>
                  <a:srgbClr val="ffcc00"/>
                </a:solidFill>
                <a:latin typeface="Arial Black"/>
              </a:rPr>
              <a:t>th</a:t>
            </a: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 April 1570 and died on 31</a:t>
            </a:r>
            <a:r>
              <a:rPr b="0" lang="en-NZ" sz="2400" spc="-1" strike="noStrike" baseline="30000">
                <a:solidFill>
                  <a:srgbClr val="ffcc00"/>
                </a:solidFill>
                <a:latin typeface="Arial Black"/>
              </a:rPr>
              <a:t>st</a:t>
            </a: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 January 1606 he was 35 his real name is Guido Fawkes the cause of death was that he got hung and his funeral was at west minister in London.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4033800" cy="4321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66ffff"/>
                </a:solidFill>
                <a:latin typeface="Arial Black"/>
              </a:rPr>
              <a:t>Why is guy Fawkes celebrated on the 5</a:t>
            </a:r>
            <a:r>
              <a:rPr b="0" lang="en-NZ" sz="4000" spc="-1" strike="noStrike" baseline="30000">
                <a:solidFill>
                  <a:srgbClr val="66ffff"/>
                </a:solidFill>
                <a:latin typeface="Arial Black"/>
              </a:rPr>
              <a:t>th</a:t>
            </a:r>
            <a:r>
              <a:rPr b="0" lang="en-NZ" sz="4000" spc="-1" strike="noStrike">
                <a:solidFill>
                  <a:srgbClr val="66ffff"/>
                </a:solidFill>
                <a:latin typeface="Arial Black"/>
              </a:rPr>
              <a:t> of November     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Because that’s the day when guy Fawkes got arrested  in 1605 and he died the next year and guy Fawkes is originally from London in England.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960720" cy="43210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Why did Guy Fawkes get arrested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He tried to blow up the Houses of Parliament</a:t>
            </a:r>
            <a:r>
              <a:rPr b="0" lang="en-NZ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.He was a Catholic. He and a small group of Catholics felt they were being treated unfairly so they planned to blow up the houses parliament but got caugh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960720" cy="4249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66"/>
                </a:solidFill>
                <a:latin typeface="Arial Black"/>
              </a:rPr>
              <a:t>THANKS FOR LISTNING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327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4:46:43Z</dcterms:created>
  <dc:creator>Adiel</dc:creator>
  <dc:description/>
  <dc:language>en-US</dc:language>
  <cp:lastModifiedBy>Adiel</cp:lastModifiedBy>
  <dcterms:modified xsi:type="dcterms:W3CDTF">2011-11-03T19:02:11Z</dcterms:modified>
  <cp:revision>4</cp:revision>
  <dc:subject/>
  <dc:title>Slide 1</dc:title>
</cp:coreProperties>
</file>